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1724-A046-4B88-8957-9CC2489D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773A-AB82-44CF-9FB5-E68B05F1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6C8B-B633-4005-8EC8-4F4D4F7B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2C45-6E7A-4E36-B6AC-3FF9D7E3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B399-0BD8-49FA-97E5-3F5E9281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3863-EADA-4051-8D4D-2A398EF0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1B33-19BA-4CA3-8DDF-E3EAB699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1DE6-CDBE-4156-85F6-2BB78813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9BFF-B94C-4A79-B085-6C027018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3065-38C9-4B10-8E8D-C107E20A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3658-DA10-44AD-BA23-EFAD5D3A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B58D-ACA8-4A49-9E78-D46646A4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276D-42BD-44AD-8BF9-3D37B68E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C088-8F0A-46F2-AE18-CDE6911A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DEAA-8ABF-4FB3-89C6-A54372C2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3808-68FA-4A5A-886B-8FB9E260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16A4-9423-4ADC-8E66-94272FAEA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3D02-2696-4B80-B48C-B224D324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8420-D337-4BA6-8835-8F8DAF43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CC4-C86F-4342-8E5E-46A0EA12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AB6A-6C76-4FDB-8247-4A1A3E0A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A286-F24E-4A3D-8C94-70CA364D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B8AC-6FDF-4883-9764-C9743BAF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F47C-D845-43DC-B1E3-4FF309FD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CE8C-AB67-48F6-A729-53132E0303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2D17-D5E3-4FF9-85DD-264656F2BA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ollege.cengage.com/history/us/kennedy/am_pageant/12e/students/index.html" TargetMode="External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American Revolution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s 7 and 8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oyalists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rie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onists who were loyal to the 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% of American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people of education &amp; wealth remained loy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r amongst older gene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lican chu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st numerous- New England (self-government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loyalist-flag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atrio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gs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 reb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nger gene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 Adams, Patrick Hen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ve me liberty or give me death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american-revolution-patriots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rench Ai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nce eager for revenge on Brit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d fought w/ Iroquois in French &amp; Indian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nted to return to former presti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nch allied with colon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th agreed to wage war until US was independent &amp; agreement reached w/ Brit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onists were weary, but needed help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lonial War Becomes a World War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nce, Spain &amp; Holland involv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r also being fought in South America, Caribbean &amp; As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se who suffered from British dominance overse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Colonists did not achieve independence until the war became too big for Britain to handle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Land Fronti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est very involved in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nations of Iroquois fought on side of colon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stward expansion did not hal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tish especially vulnerable in Illinois coun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Sea Fronti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 navy: Small number of nondescript shi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tiny fore never made a dent against Britain’s huge fle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ef contribution: destroying British merchant shipp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ried war into the waters around British Is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6934320" y="5524560"/>
            <a:ext cx="198576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Sea Fronti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 privateers were more effec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horized by congress to prey on enemy shi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tured approx. 600 British shi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ought in gold, harassed enemy, raised American mora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Final Curtain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ctory at Yorkt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rovided sea power &amp; ½ troo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victory at Yorktown, fighting continued between Patriots and Loyal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hington was successful in keeping states together so a peace treaty could be sign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eace at Paris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n Franklin, John Adams and John Jay gathered in Par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aty of Paris, 178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ish officially recognized the independence of the United St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ted generous boundaries to U.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yalists not to be persecut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legislatures (in charge during war) to restore property to loyalis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 New Legitimized N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632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ain was generous in Treaty of Pa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ying to break up American alliance w/ French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vent future wa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parate peace w/ F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ance relieved by prospect of bringing costly war to an e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ance plummets into bankruptcy &amp; rev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ns began national career w. territorial birthright &amp; heritage of free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4267080" y="5486400"/>
            <a:ext cx="1387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college.cengage.com/history/us/kennedy/am_pageant/12e/students/index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6456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oots of Revolution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French &amp; Indian war, Britain has new king= George III, works hard to assert power of British Monarch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orge Grenville= Prime Minister, imposes taxes on the colon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george-grenville-1-sized"/>
          <p:cNvPicPr/>
          <p:nvPr/>
        </p:nvPicPr>
        <p:blipFill>
          <a:blip r:embed="rId1"/>
          <a:stretch/>
        </p:blipFill>
        <p:spPr>
          <a:xfrm>
            <a:off x="7162920" y="4267080"/>
            <a:ext cx="1627200" cy="2057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220px-George_III_in_Coronation_edit"/>
          <p:cNvPicPr/>
          <p:nvPr/>
        </p:nvPicPr>
        <p:blipFill>
          <a:blip r:embed="rId2"/>
          <a:stretch/>
        </p:blipFill>
        <p:spPr>
          <a:xfrm>
            <a:off x="0" y="1752480"/>
            <a:ext cx="12556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mmittees of Correspondence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ed by Sam Adams in response to British actions (acts, etc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rpose to spread the spirit of resistance &amp; keep resistance to British policy al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olved directly into first American congress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rengths and weaknesses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itish Strength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fessional Army (50,000 men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erican loyalists and Native Americans joined arm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netary weal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val pow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itish Weakness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rance waiting for opportunity to betray Brit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ndon government was inep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perated under difficulties in Amer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arce food &amp; r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,000 miles from ho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rengths and Weakness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erican Strength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ographical expans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utstanding leadership: George Washington; Benjamin Frankl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eign aid from Fr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ghting defensive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lf-sustaining agricul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lief in a just caus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erican Weakn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dly organiz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cking in 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onomic difficult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fter Bunker Hill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live Branch Peti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Professed American loyalty to the crown; begged the king to prevent further host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ng refused reconcili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red Hessians (German mercenaries) to help crush “rebellio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ers colonists: didn’t understand need to bring in outside mercenarie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250px-Olive_petition_petition_big"/>
          <p:cNvPicPr/>
          <p:nvPr/>
        </p:nvPicPr>
        <p:blipFill>
          <a:blip r:embed="rId1"/>
          <a:stretch/>
        </p:blipFill>
        <p:spPr>
          <a:xfrm>
            <a:off x="6762600" y="0"/>
            <a:ext cx="23814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aine’s Republicanism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ine also called for creation of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publ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er flows from people themsel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corrupt mon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d been practiced in colonial town meet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Thomas_Paine_(cropped)"/>
          <p:cNvPicPr/>
          <p:nvPr/>
        </p:nvPicPr>
        <p:blipFill>
          <a:blip r:embed="rId1"/>
          <a:stretch/>
        </p:blipFill>
        <p:spPr>
          <a:xfrm>
            <a:off x="6400800" y="4724280"/>
            <a:ext cx="1798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8:00:38Z</dcterms:created>
  <dc:creator>emily.johnson</dc:creator>
  <dc:description/>
  <dc:language>en-US</dc:language>
  <cp:lastModifiedBy>emily.johnson</cp:lastModifiedBy>
  <dcterms:modified xsi:type="dcterms:W3CDTF">2012-09-25T13:16:38Z</dcterms:modified>
  <cp:revision>9</cp:revision>
  <dc:subject/>
  <dc:title>The American Revolution </dc:title>
</cp:coreProperties>
</file>